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5CA-87D9-45C3-BE90-126D804D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080-F954-4497-A2D1-62AACE8B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B0E-E242-42CF-B179-1AEAA473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54E-9251-4EB2-B390-CCF3C06D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F9C-B075-45BA-8795-5AA7C283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D8D-DFF1-4F46-9B89-4036FF72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62F-0510-4B13-9265-0583FA4D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C52-83D1-4EC6-BEB8-02DFC392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0CA-0DAB-400C-89D9-72626B99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EA3-8AFA-4764-B8B2-BEE312A7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B11-3CF6-4F36-9CCF-C6039583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0FD-6718-49DA-9316-EDC4DC4E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8E29-DE29-4CAF-9D8D-77F5C6A8B5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ELL PROJEC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8280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 does the use of technology 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dent motivation to practise Japan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utside of the classroom and 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cognition of Level 1 kanji character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99"/>
                </a:solidFill>
                <a:latin typeface="Arial"/>
              </a:rPr>
              <a:t>Focus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773360"/>
          <a:ext cx="8064360" cy="400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064360" cy="40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1052640"/>
          <a:ext cx="8640720" cy="42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64072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aseline recognitio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ebsites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oal se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f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eps 4 &amp; 5 rep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dditional test conducted at the end of week 2 and week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820908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0643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Significant Findin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or a number of students the option to use technology did incr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ir motivation to practise which resulted in improved achieve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gardless of whether the students engaged more with technology or traditional methods such as flash cards, gaining ‘feedback’ appeared to be the most motivating fact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learning log encouraged them to engage in reflective thought and action which also appeared to increase their motivation to practi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99"/>
                </a:solidFill>
                <a:latin typeface="Arial"/>
              </a:rPr>
              <a:t>References (APA)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Becta ICT Research (200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http://partners.becta.org.uk/upload-dirdownloads/page_documents/research/wtrs-mfl.pdf.    Accessed 18/08/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Friesner, Tim and Hart, Mike (2005). 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Learning Logs: Assessment or Research Method.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Electronic Journal of Business Research Methods, 3 (2) 117-122. Accessed 20/09/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Liddicoat, Anthony J. (2004). 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Intercultural Language Teaching: Principals for Practice.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The New Zealand Language Teacher, 30, 17-2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MacFarlane, A., Glynn, T., Cavanagh, T., Bateman, S., (2007) 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Creating Culturally-safe schools for Maori students.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The Australian Journal of Indigenous Education, 36, 65-7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Ministry of Education (2008).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 Ka Hikitia, Managing for Success the Maori Education Strategy 2008-101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Ministry of Education (2007).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 The New Zealand Curriculum. 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Wellington, New Zealand; Learning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Med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Pavy, Sarah (2006). 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Boys Learning Languages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. The New Zealand Language Teacher, 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Prensky, Mark (2001). 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Digital Natives, Digital immigrants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. On the Horizon, 9 (5) 1-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9:21:57Z</dcterms:created>
  <dc:creator>Ministry of Education</dc:creator>
  <dc:description/>
  <dc:language>en-US</dc:language>
  <cp:lastModifiedBy>hawesj</cp:lastModifiedBy>
  <dcterms:modified xsi:type="dcterms:W3CDTF">2010-02-01T03:17:14Z</dcterms:modified>
  <cp:revision>18</cp:revision>
  <dc:subject/>
  <dc:title>Context</dc:title>
</cp:coreProperties>
</file>